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EFA3-84C1-4D06-BBAB-09B26739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E5D1-F290-4575-A535-91F69B50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0084-8A28-41E6-9ED9-BAA84F26F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A4F2-1A34-4A23-A9AE-4F4572A0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732C-FBC6-4305-865A-AA8A81A6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DFA1-7C7E-4DAA-9F08-3C48B6FE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4DD9-ACB3-42A2-8FB4-D4954B58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4C52-F94A-44DC-B912-D9B464AE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ED28-9DAD-4CC2-8C0D-173C498E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15B1-AB25-4B66-97E2-F0DF4555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C8CA-2A8D-4023-8BBF-D3CB440D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6059-831A-4FEF-9EAD-4A5E4E32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8A9B-A05D-4BAA-AC04-839898133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___ Clase 8IM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9 de noviembre del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14: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¿Cual es la diferencia entre Halloween y el Día de los muert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rar el video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l Día de los Muer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entras miras el video, completa el paquete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l día de los muertos: Activity 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tregar el Paquete de Activ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Tarea # 14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pieza a trabajar en el Proyecto #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royecto #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ORATE your CALACA as a MEMORIAL to someone or something you cared for and l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sure that you use images, colors, etc, that represent your 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ound the CALACA write a minimum of 12 sentences in the best Spanish you can write.  You may wish to include information about the person or thing you lost, why they/it was important to you, why you miss them/it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IS DUE ON TUESESDAY, NOV. 1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23:34:52Z</dcterms:created>
  <dc:creator>Helen Zumaeta</dc:creator>
  <dc:description/>
  <dc:language>en-US</dc:language>
  <cp:lastModifiedBy>Helen Zumaeta</cp:lastModifiedBy>
  <dcterms:modified xsi:type="dcterms:W3CDTF">2012-11-09T14:51:25Z</dcterms:modified>
  <cp:revision>2</cp:revision>
  <dc:subject/>
  <dc:title>Me llamo ____________ Clase 9IM La fecha es el 9 de noviembre del 2012</dc:title>
</cp:coreProperties>
</file>